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png" ContentType="image/pn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2.png" ContentType="image/png"/>
  <Override PartName="/ppt/media/image33.png" ContentType="image/png"/>
  <Override PartName="/ppt/media/image39.wmf" ContentType="image/x-wmf"/>
  <Override PartName="/ppt/media/image41.wmf" ContentType="image/x-wmf"/>
  <Override PartName="/ppt/media/image31.jpeg" ContentType="image/jpeg"/>
  <Override PartName="/ppt/media/image45.wmf" ContentType="image/x-wmf"/>
  <Override PartName="/ppt/media/image40.wmf" ContentType="image/x-wmf"/>
  <Override PartName="/ppt/media/image32.png" ContentType="image/png"/>
  <Override PartName="/ppt/media/image44.png" ContentType="image/png"/>
  <Override PartName="/ppt/media/image34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20.wmf" ContentType="image/x-wmf"/>
  <Override PartName="/ppt/media/image46.wmf" ContentType="image/x-wmf"/>
  <Override PartName="/ppt/media/image7.wmf" ContentType="image/x-wmf"/>
  <Override PartName="/ppt/media/image37.wmf" ContentType="image/x-wmf"/>
  <Override PartName="/ppt/media/image30.jpeg" ContentType="image/jpeg"/>
  <Override PartName="/ppt/media/image9.jpeg" ContentType="image/jpeg"/>
  <Override PartName="/ppt/media/image13.png" ContentType="image/png"/>
  <Override PartName="/ppt/media/image4.jpeg" ContentType="image/jpeg"/>
  <Override PartName="/ppt/media/image38.wmf" ContentType="image/x-wmf"/>
  <Override PartName="/ppt/media/image8.wmf" ContentType="image/x-wmf"/>
  <Override PartName="/ppt/media/image36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29.jpeg" ContentType="image/jpe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201C-1345-4D05-8DDB-E388B4317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B010-DFBC-4F4D-ABF1-EBE0D5E01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1AEA01B-D103-4AE8-9048-D7B622FC9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71389C8-5592-4856-A6A7-C3E9D9AC0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534D-39E6-4521-A035-A93231D11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D0D4-E024-4C56-AF72-C356BED24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F069-1280-4CD1-81CF-D00B10FF1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ED49-9973-42BF-99F3-A65E049C4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E208-D36F-4B2F-AD6D-92331ECC1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FB68-F83E-4DAA-84E9-A5A465212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3AE5-6806-4C75-A2A8-A19D7F2C7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7A77-1831-41BD-8948-61F9ED5C5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05C0-EE65-4C1D-8513-71F88D770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C8BE-12BC-48EA-82E7-940B90108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94CE-A669-4EAD-82FB-AACEE011D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EEB8-651B-4AD6-BC13-DC6C7B1DF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6163-8A5F-47CF-8439-86820C97E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12E3-5F05-4458-85EE-2702460F5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5BA5-8504-4C54-9F9E-23F138A1E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99CA-95EF-412F-BF6F-B62CE7EB7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ECE6-DC90-4A66-AFD9-E6BAB3171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5E4E-0D2A-4789-BF2F-DC7507EE7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F6C4-07E4-4655-87BA-EF9C945CB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7D94-0811-4C1D-8928-6FA0EA548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9C1E-A34C-415B-95B2-03F4936AB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9EF9-AF57-4C9D-9964-56BC1EAA8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BF40-D916-49EC-9F54-6AF6EE3FF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3933-591F-4B43-8394-3E95A9CB7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4DE5-8469-4127-BE15-DF89F39E2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8AAB-291C-4709-B656-6CCBDBC88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6DD8-302A-4E08-BAC5-0FFD679A0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582E-29A5-417F-8AB0-DEC06034E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574C-0F51-47C0-860E-C9CF4E480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8C168-4AAB-4A86-A468-8EF8675083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70032-F568-4F83-8485-CDB7F007F43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6F1A9B-95FC-402F-9EE0-E37D09C80F2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A7E8DE-EEEF-467D-8E49-B9C8488DA1F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80936D-0622-4C85-84D2-54082371424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FDD64C-D11D-4C10-8117-26C73E73839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5DB777-4E52-45A1-A2B4-9E981768940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FBA17F-B890-42BE-B27F-D27788D41D1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2CBAF0-EA2D-4FCA-9E40-9A78D7BDB55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A40CAB-2026-4EA2-B315-4EA91CEB4EE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3B75E7-529D-4A4E-86F2-95EA1E271C1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BD8F3-12CD-4F5C-A48C-21923F1FC2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FEC58-0F42-4B0C-9788-A68C744DF3D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A939A-E72B-414C-8A88-ADB64F51663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59EA5-1899-4ACD-ADA5-0FB7D607C9F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07344-ADCB-4F6D-963A-9D93F7ED90E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23514-AC00-4B96-9E10-CC4FC1D1F39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4399A-045B-47CC-A3F9-A4539E6C765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CED60-FC53-4DB1-8805-D85EC675A80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9C640-3086-4F30-BAF7-454B72BF62E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F6F4F-2B24-48B8-8603-6622E929C4A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4650C-14EB-4E4E-B57D-7C4160AAE32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F7335-43BB-4E03-975F-55BBFD25F8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2ADEE-A0E1-4176-AEAB-16D253D376F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40FD0-A5C9-4FA3-A0CD-0C7DDF32456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175DBD-EC27-478F-967C-A87EA6C4932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A84746-E4A2-43B4-BD10-CAFA3A4B862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E35223-E7BD-4E67-A78A-CBFB83E5F34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69F9B5-035F-46D7-B882-BCFE8974312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A64CBE-5866-4A38-B3FC-5DE90E254BF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6ED7F4-FED9-4F65-B00E-9A69F7427EA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616FBA-846B-439D-848F-33FD408E76F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A5FAEF-9EE6-4568-BDC6-5173E7B3F14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0D72E6-9118-47D5-92FD-6032A55540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FB8801-4994-40A3-800A-2EFB16A3120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78A952-236B-47E1-AAE4-79AFD36163E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71D068-8778-4E23-BF07-C1CA79323C7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06AC1B-171E-43A8-B09D-914AF27F540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3FCE87-66C5-4317-B57C-B5873103DEC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FC24A1-FA21-4AE3-B06E-61FE849CE88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3EB212-80CB-49BC-A23D-998C36F47F9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2E5B3F-E581-4675-84C1-CD8C656DE3B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A8868E-74C5-4D44-970A-2188D408E1A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096BDC-C42F-415A-8D94-EDDDA1B3A1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7B601D-368D-4F02-973D-2B2514DBFE8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34B3E2-19E2-4D22-B373-98420B2824E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43A548-3A55-4AF3-B0A8-3A0FA0CFEC3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49AF42-90C4-4834-A230-C97975F523C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67077C-EFE4-4E8E-8B05-28E1058A067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6C4D3-1FD7-4175-B387-4031040E3BD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3E92B-0E8E-4432-AEDB-E605E742C8C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D9A8F-7812-4919-A9DF-0AFC40FFADC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ED934-2913-4D28-ABDF-E521B646B0D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FF644-2ED3-4299-9DAB-0E7F7C28CD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5D3EA-8F09-48CF-AF6A-2B6583F3E17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F0DF7-EE58-44B5-BC35-03E98021380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BCF61-1A2D-41C9-822D-74BF9E8FC2F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C0CCE-B1F9-40CE-867E-4B3553F112E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00377-ACD8-46CD-ACA8-E5EADE63EDE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89A9E-B473-4174-A4A6-093993088FD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71725-6467-4132-A407-4794289486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80C18-AC88-4F98-BCDE-633C20B62E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BB180-5B5F-48BB-815C-DD5DF243158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68C86-7E85-4B35-9D9C-639A071113A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1DC53-6F24-4D8A-8FA2-DAF699618F3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25E13-035A-4CE7-ABD0-DD3C141CC93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56925-FA13-4169-85B3-7663E4A850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23BDF-9E45-47CA-B39C-0C204F7C6F4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9B389-FD36-41A2-9AE4-9AB8FD95FD9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369EC-D754-4421-95FD-18719F906B5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42ED9-1D69-4FC1-979B-02ED1B582DF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4FC08-087D-462E-9DC6-E5053E28BEC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8D157-609D-4879-9922-C59CBB5779B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B90D2-9568-4592-8C86-EDE8221F9B8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B078D-20E0-45B8-8241-A98847B56F8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4D8C-C719-4AF1-9A60-BC66FFB4CFE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69F3-D8BE-4843-A6C1-A9CDD100C0C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20CA-A6C3-45BF-A40E-5AF3E992A0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8B93D-D6B6-4E10-B67D-E1130C8D0A4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2E87-B6B6-4ABF-BA46-D1B876EB400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A3F9-CEAB-4F92-B78D-D2237358728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C355-104D-42A9-B22B-CF3FB3B19A1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4096-600C-4886-B88C-BB23ACB43FE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5FDA-4944-4AB2-B41B-4BBA9FFCC38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28C5-E05A-4153-8846-15C736CA4F3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2636-E021-4531-86F7-ADEA3FF706B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9745-02AE-4003-A7D5-7A5A52B0032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E8A4-07A4-463F-9905-CAE6CD3B974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6E107E-8F78-43E6-A372-4C9CFA8328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58361-50EE-43F6-97FC-5228D74C4D6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8A8C41-E1D7-460D-8F1F-75BEF200298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3AE399-0C9A-4241-8A23-88F9F9FF979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6D0D63-0ED4-4651-8B80-2142DDBF709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FC86DF-117B-4542-BBB9-75E7D88465E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F035AE-1584-4324-8EBB-49CFFD9D6B6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91229F-4023-4A70-9D39-B9A39678901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B88B66-38ED-41BA-A3BF-04B2D041677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C499B1-33CB-4CD3-804A-14BECFCB4A6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08B175-AE1B-4590-A06C-891E00825F5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B64A15-CB3C-4F28-98C2-00AE26D586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36E1C-2E0D-415D-AC41-E6E1E231426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607AE6-8A4C-494E-9A5B-E8BA588840B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5D3AAF-2A68-4491-94A6-BC8C274E643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1B77A3-3E7B-468C-B47C-E857610FC54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CC7793-C2B7-4FA3-AB45-FAA1035C08C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A2F6E6-8DF8-42DB-90D5-E656EDC390F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B002C1-6ECE-4063-919A-7BE20E038C3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978E04-BD9D-4EF1-A3A8-627B37D0FA7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94A70F-5FAF-4DA0-A140-D18F83B9764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D07821-7EBF-4FBE-A5A1-4AFCD74A414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1FD3FC-1D40-454A-9797-15049DB093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FB32A-5F24-4574-9704-7331ACD348E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C180D9-091E-4BE9-877E-3471B52457D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3C20B9-5349-408F-B508-2F05FB14580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C6B264-8DDB-49B9-A8B6-7E5B1016501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2AE1B-D637-49AF-945A-F3168D9B6DC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F8703-FB5E-425D-A203-BFFD7793A3C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931D9-FA21-4EEC-A55F-64AE1B0C30E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B47F7-8D57-4B55-9BF9-1990E5814AB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4E598-AAD7-4CE7-A562-13D2F7BB4D5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98ADC-E1CC-4C88-AAE5-AB51AC9BD93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F2C0D-EBE9-4258-8399-F59A28771E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666B8-4CC7-4677-9165-776A12F81BD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D4790-9F5F-44EC-8D77-DF5242B6F0B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DB7E6-F4C1-4E9C-9CE6-D0682A89929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2FB21-6B26-4BDF-A201-43FCAE0C594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B71AB-4ED1-44F5-ADD7-C58C68DE64C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533B0-0C2F-4F25-846F-7A24DC623AC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FD5C0A-CB65-4362-9D20-07F8FF5A369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E220F7-F9F7-45EC-B393-24F4C151448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80871E-A533-4C51-80FE-2DB0395097C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2DCD51-4871-456B-B03D-88CFACA81E8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990BFF-044E-4ABF-80AB-69EEDD2301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AE861-D54F-438D-B6A3-FD11D5564D4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A57D7E-C011-411A-B700-914F93568F5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2110DD-8709-48A3-B2BB-02A80C15FA2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51C5C4-355E-49EC-8829-3CE30B6C2EE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8B8DF2-FFC7-4325-B2F9-FC8B602404A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020FF9-272C-405C-B852-D0B233F0031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BABCF4-4DC8-467D-B106-71FEB860EAD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7AE6A7-30A4-4698-9B4F-2BB3372890A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2ADAE5-44EE-48E1-8173-9BA9064B16B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56AC9A-193B-493F-8BF1-A2390CE5CCF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DAF826-9C88-445A-92CB-FF9F8603FA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F20C-1399-4559-93C8-A37D647509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1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1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51DD-33CA-4F4C-82C1-CDE27745D8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ftr" idx="1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2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8117-A20A-433D-A886-B95D7CE88B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ftr" idx="2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sldNum" idx="2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FBF6-DB9C-428E-94FD-B67FAD4C00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ftr" idx="2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sldNum" idx="2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DE84-006E-4B7F-BEA5-56A0B60D18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LSI_WHO_Blue_CMYK1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FC1F-8D55-4CF5-8E39-8E63AFCF2D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7DEA-F887-476C-8E01-6CC80F30C1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C130-E981-4FCF-9D1B-01DF7156F5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ftr" idx="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3D63-5C4A-47BF-A076-C3B3AAC29F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1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7396-B6CD-4E09-B064-A22513891D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1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sldNum" idx="1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4876-D896-4905-A3F9-0539F06ACF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ftr" idx="1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AD49-0496-4E44-8A7B-86D35CE9F9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wmf"/><Relationship Id="rId7" Type="http://schemas.openxmlformats.org/officeDocument/2006/relationships/image" Target="../media/image12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29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image" Target="../media/image39.wmf"/><Relationship Id="rId10" Type="http://schemas.openxmlformats.org/officeDocument/2006/relationships/image" Target="../media/image40.wmf"/><Relationship Id="rId11" Type="http://schemas.openxmlformats.org/officeDocument/2006/relationships/image" Target="../media/image41.wmf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66688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ценка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Аудиты</a:t>
            </a:r>
            <a:endParaRPr b="0" lang="en-US" sz="48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33160" y="1347840"/>
            <a:ext cx="8305560" cy="28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нформацию 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ерационных процедур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х, оборудован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тодах анализ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х рабо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и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ействиях по проверке контрол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дении записей и предоставлении отчет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Picture 4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648320" y="4267080"/>
            <a:ext cx="3525840" cy="223056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MCj04349290000[1]"/>
          <p:cNvPicPr/>
          <p:nvPr/>
        </p:nvPicPr>
        <p:blipFill>
          <a:blip r:embed="rId2"/>
          <a:stretch/>
        </p:blipFill>
        <p:spPr>
          <a:xfrm>
            <a:off x="1676520" y="41623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80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B11B-3DA6-4DE1-8501-398101992E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1066680" y="1523520"/>
            <a:ext cx="784872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ите результаты с документами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е нарушения в системе или отклонения от процеду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едпримите действия по результатам ауд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50A9-76F6-45A3-8345-65DE628999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Rectangle 2"/>
          <p:cNvSpPr/>
          <p:nvPr/>
        </p:nvSpPr>
        <p:spPr>
          <a:xfrm>
            <a:off x="4572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295280"/>
            <a:ext cx="7619760" cy="5029200"/>
          </a:xfrm>
          <a:prstGeom prst="rect">
            <a:avLst/>
          </a:prstGeom>
          <a:ln w="0">
            <a:noFill/>
          </a:ln>
        </p:spPr>
      </p:pic>
      <p:sp>
        <p:nvSpPr>
          <p:cNvPr id="812" name="Rectangle 7"/>
          <p:cNvSpPr/>
          <p:nvPr/>
        </p:nvSpPr>
        <p:spPr>
          <a:xfrm>
            <a:off x="53352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ие аудитор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3" name="Picture 8" descr="lab_design"/>
          <p:cNvPicPr/>
          <p:nvPr/>
        </p:nvPicPr>
        <p:blipFill>
          <a:blip r:embed="rId2"/>
          <a:stretch/>
        </p:blipFill>
        <p:spPr>
          <a:xfrm>
            <a:off x="3200400" y="2133720"/>
            <a:ext cx="2593800" cy="3124080"/>
          </a:xfrm>
          <a:prstGeom prst="rect">
            <a:avLst/>
          </a:prstGeom>
          <a:ln w="0">
            <a:noFill/>
          </a:ln>
        </p:spPr>
      </p:pic>
      <p:sp>
        <p:nvSpPr>
          <p:cNvPr id="814" name="Rectangle 9"/>
          <p:cNvSpPr/>
          <p:nvPr/>
        </p:nvSpPr>
        <p:spPr>
          <a:xfrm>
            <a:off x="3200400" y="3276720"/>
            <a:ext cx="2819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2C8B-F57B-4D5C-A7C7-786D74AE2F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Footer Placeholder 10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Oval 3"/>
          <p:cNvSpPr/>
          <p:nvPr/>
        </p:nvSpPr>
        <p:spPr>
          <a:xfrm>
            <a:off x="228600" y="1371600"/>
            <a:ext cx="3581280" cy="15238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Oval 5"/>
          <p:cNvSpPr/>
          <p:nvPr/>
        </p:nvSpPr>
        <p:spPr>
          <a:xfrm>
            <a:off x="5486400" y="4495680"/>
            <a:ext cx="3505320" cy="15368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Oval 4"/>
          <p:cNvSpPr/>
          <p:nvPr/>
        </p:nvSpPr>
        <p:spPr>
          <a:xfrm>
            <a:off x="5181480" y="1523880"/>
            <a:ext cx="3505320" cy="12956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Oval 6"/>
          <p:cNvSpPr/>
          <p:nvPr/>
        </p:nvSpPr>
        <p:spPr>
          <a:xfrm>
            <a:off x="380880" y="4495680"/>
            <a:ext cx="289584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ирующ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TextBox 1"/>
          <p:cNvSpPr/>
          <p:nvPr/>
        </p:nvSpPr>
        <p:spPr>
          <a:xfrm>
            <a:off x="304920" y="1523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рганы 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TextBox 2"/>
          <p:cNvSpPr/>
          <p:nvPr/>
        </p:nvSpPr>
        <p:spPr>
          <a:xfrm>
            <a:off x="5105520" y="163656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ы по аккреди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TextBox 3"/>
          <p:cNvSpPr/>
          <p:nvPr/>
        </p:nvSpPr>
        <p:spPr>
          <a:xfrm>
            <a:off x="5578560" y="4648320"/>
            <a:ext cx="341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ы  охраны здоровь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File"/>
          <p:cNvSpPr/>
          <p:nvPr/>
        </p:nvSpPr>
        <p:spPr>
          <a:xfrm>
            <a:off x="4724280" y="1598760"/>
            <a:ext cx="3733920" cy="1523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порядочи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25" name="Group 3"/>
          <p:cNvGrpSpPr/>
          <p:nvPr/>
        </p:nvGrpSpPr>
        <p:grpSpPr>
          <a:xfrm>
            <a:off x="4876920" y="2741760"/>
            <a:ext cx="3885840" cy="2971440"/>
            <a:chOff x="4876920" y="2741760"/>
            <a:chExt cx="3885840" cy="2971440"/>
          </a:xfrm>
        </p:grpSpPr>
        <p:sp>
          <p:nvSpPr>
            <p:cNvPr id="826" name="Puzzle3"/>
            <p:cNvSpPr/>
            <p:nvPr/>
          </p:nvSpPr>
          <p:spPr>
            <a:xfrm>
              <a:off x="6769440" y="2741760"/>
              <a:ext cx="1527480" cy="1579320"/>
            </a:xfrm>
            <a:custGeom>
              <a:avLst/>
              <a:gdLst>
                <a:gd name="textAreaLeft" fmla="*/ 160200 w 1527480"/>
                <a:gd name="textAreaRight" fmla="*/ 1354680 w 1527480"/>
                <a:gd name="textAreaTop" fmla="*/ 564120 h 1579320"/>
                <a:gd name="textAreaBottom" fmla="*/ 1479240 h 157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7" name="Puzzle2"/>
            <p:cNvSpPr/>
            <p:nvPr/>
          </p:nvSpPr>
          <p:spPr>
            <a:xfrm>
              <a:off x="6324840" y="3891960"/>
              <a:ext cx="2437920" cy="1438200"/>
            </a:xfrm>
            <a:custGeom>
              <a:avLst/>
              <a:gdLst>
                <a:gd name="textAreaLeft" fmla="*/ 608760 w 2437920"/>
                <a:gd name="textAreaRight" fmla="*/ 1826640 w 2437920"/>
                <a:gd name="textAreaTop" fmla="*/ 448200 h 1438200"/>
                <a:gd name="textAreaBottom" fmla="*/ 1361160 h 143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8" name="Puzzle4"/>
            <p:cNvSpPr/>
            <p:nvPr/>
          </p:nvSpPr>
          <p:spPr>
            <a:xfrm>
              <a:off x="5381280" y="3874320"/>
              <a:ext cx="1469880" cy="1838880"/>
            </a:xfrm>
            <a:custGeom>
              <a:avLst/>
              <a:gdLst>
                <a:gd name="textAreaLeft" fmla="*/ 141120 w 1469880"/>
                <a:gd name="textAreaRight" fmla="*/ 1375560 w 1469880"/>
                <a:gd name="textAreaTop" fmla="*/ 481680 h 1838880"/>
                <a:gd name="textAreaBottom" fmla="*/ 1360080 h 183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9" name="Puzzle1"/>
            <p:cNvSpPr/>
            <p:nvPr/>
          </p:nvSpPr>
          <p:spPr>
            <a:xfrm>
              <a:off x="4876920" y="3219480"/>
              <a:ext cx="2468160" cy="1096200"/>
            </a:xfrm>
            <a:custGeom>
              <a:avLst/>
              <a:gdLst>
                <a:gd name="textAreaLeft" fmla="*/ 695160 w 2468160"/>
                <a:gd name="textAreaRight" fmla="*/ 1842840 w 2468160"/>
                <a:gd name="textAreaTop" fmla="*/ 130320 h 1096200"/>
                <a:gd name="textAreaBottom" fmla="*/ 992160 h 10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830" name="Picture 9" descr="j0213395"/>
          <p:cNvPicPr/>
          <p:nvPr/>
        </p:nvPicPr>
        <p:blipFill>
          <a:blip r:embed="rId1"/>
          <a:stretch/>
        </p:blipFill>
        <p:spPr>
          <a:xfrm>
            <a:off x="4367160" y="4724280"/>
            <a:ext cx="1652760" cy="160020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10" descr="j0433934"/>
          <p:cNvPicPr/>
          <p:nvPr/>
        </p:nvPicPr>
        <p:blipFill>
          <a:blip r:embed="rId2"/>
          <a:stretch/>
        </p:blipFill>
        <p:spPr>
          <a:xfrm>
            <a:off x="409680" y="4192560"/>
            <a:ext cx="1419120" cy="182736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11"/>
          <p:cNvSpPr/>
          <p:nvPr/>
        </p:nvSpPr>
        <p:spPr>
          <a:xfrm>
            <a:off x="1371600" y="42670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1500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ставьте с сотрудниками распис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Rectangle 12"/>
          <p:cNvSpPr/>
          <p:nvPr/>
        </p:nvSpPr>
        <p:spPr>
          <a:xfrm>
            <a:off x="228600" y="45720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к внешнему аудит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Text Box 13"/>
          <p:cNvSpPr/>
          <p:nvPr/>
        </p:nvSpPr>
        <p:spPr>
          <a:xfrm>
            <a:off x="5715000" y="441792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оберите информацию и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5" name="Picture 15" descr="MCj03636380000[1]"/>
          <p:cNvPicPr/>
          <p:nvPr/>
        </p:nvPicPr>
        <p:blipFill>
          <a:blip r:embed="rId3"/>
          <a:stretch/>
        </p:blipFill>
        <p:spPr>
          <a:xfrm>
            <a:off x="1065240" y="1598760"/>
            <a:ext cx="3201840" cy="240804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16"/>
          <p:cNvSpPr/>
          <p:nvPr/>
        </p:nvSpPr>
        <p:spPr>
          <a:xfrm>
            <a:off x="1143000" y="201780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spcBef>
                <a:spcPts val="17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делайте пла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AC9F-A150-43BC-A279-DAD96311BA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чет внешнего аудита и план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Rectangle 4"/>
          <p:cNvSpPr/>
          <p:nvPr/>
        </p:nvSpPr>
        <p:spPr>
          <a:xfrm>
            <a:off x="5715000" y="2736720"/>
            <a:ext cx="266688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  <a:ea typeface="Arial"/>
              </a:rPr>
              <a:t>Выявите пробе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Rectangle 5"/>
          <p:cNvSpPr/>
          <p:nvPr/>
        </p:nvSpPr>
        <p:spPr>
          <a:xfrm>
            <a:off x="304920" y="4572000"/>
            <a:ext cx="2971800" cy="1523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регистрируйте результаты и действ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пишите отч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Rectangle 6"/>
          <p:cNvSpPr/>
          <p:nvPr/>
        </p:nvSpPr>
        <p:spPr>
          <a:xfrm>
            <a:off x="4724280" y="3733920"/>
            <a:ext cx="365760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Запланируйте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Rectangle 7"/>
          <p:cNvSpPr/>
          <p:nvPr/>
        </p:nvSpPr>
        <p:spPr>
          <a:xfrm>
            <a:off x="3962520" y="4876920"/>
            <a:ext cx="419076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ределите сро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Text Box 8"/>
          <p:cNvSpPr/>
          <p:nvPr/>
        </p:nvSpPr>
        <p:spPr>
          <a:xfrm>
            <a:off x="4495680" y="1684440"/>
            <a:ext cx="441972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 понимает рекоменд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AutoShape 9"/>
          <p:cNvSpPr/>
          <p:nvPr/>
        </p:nvSpPr>
        <p:spPr>
          <a:xfrm>
            <a:off x="3048120" y="1752480"/>
            <a:ext cx="1371600" cy="7621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AutoShape 10"/>
          <p:cNvSpPr/>
          <p:nvPr/>
        </p:nvSpPr>
        <p:spPr>
          <a:xfrm rot="10800000">
            <a:off x="2819160" y="5715000"/>
            <a:ext cx="6019560" cy="838080"/>
          </a:xfrm>
          <a:custGeom>
            <a:avLst/>
            <a:gdLst>
              <a:gd name="textAreaLeft" fmla="*/ 940320 w 6019560"/>
              <a:gd name="textAreaRight" fmla="*/ 5267160 w 601956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AutoShape 11"/>
          <p:cNvSpPr/>
          <p:nvPr/>
        </p:nvSpPr>
        <p:spPr>
          <a:xfrm rot="5400000">
            <a:off x="6781320" y="3657600"/>
            <a:ext cx="3505320" cy="762120"/>
          </a:xfrm>
          <a:custGeom>
            <a:avLst/>
            <a:gdLst>
              <a:gd name="textAreaLeft" fmla="*/ 547560 w 3505320"/>
              <a:gd name="textAreaRight" fmla="*/ 3067200 w 35053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AutoShape 14"/>
          <p:cNvSpPr/>
          <p:nvPr/>
        </p:nvSpPr>
        <p:spPr>
          <a:xfrm>
            <a:off x="685800" y="1844640"/>
            <a:ext cx="2209680" cy="21938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вод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 отчет ауди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FBAC-9C57-4806-96C8-B59FC4A9B9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Footer Placeholder 1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Picture 2" descr="spy_guy_bck_col"/>
          <p:cNvPicPr/>
          <p:nvPr/>
        </p:nvPicPr>
        <p:blipFill>
          <a:blip r:embed="rId1"/>
          <a:stretch/>
        </p:blipFill>
        <p:spPr>
          <a:xfrm>
            <a:off x="380880" y="1371600"/>
            <a:ext cx="1905120" cy="175248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3" descr="j0335232"/>
          <p:cNvPicPr/>
          <p:nvPr/>
        </p:nvPicPr>
        <p:blipFill>
          <a:blip r:embed="rId2"/>
          <a:stretch/>
        </p:blipFill>
        <p:spPr>
          <a:xfrm>
            <a:off x="6629400" y="1447920"/>
            <a:ext cx="2057400" cy="1954080"/>
          </a:xfrm>
          <a:prstGeom prst="rect">
            <a:avLst/>
          </a:prstGeom>
          <a:ln w="0">
            <a:noFill/>
          </a:ln>
        </p:spPr>
      </p:pic>
      <p:sp>
        <p:nvSpPr>
          <p:cNvPr id="853" name="Text Box 4"/>
          <p:cNvSpPr/>
          <p:nvPr/>
        </p:nvSpPr>
        <p:spPr>
          <a:xfrm>
            <a:off x="6553080" y="9144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Гибк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4" name="Picture 5" descr="j0424784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855" name="Text Box 6"/>
          <p:cNvSpPr/>
          <p:nvPr/>
        </p:nvSpPr>
        <p:spPr>
          <a:xfrm>
            <a:off x="6477120" y="3672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дорого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3808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Text Box 74"/>
          <p:cNvSpPr/>
          <p:nvPr/>
        </p:nvSpPr>
        <p:spPr>
          <a:xfrm>
            <a:off x="2590920" y="4695840"/>
            <a:ext cx="66294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ребуется стандартами ИС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, когда выявляют пробл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Text Box 75"/>
          <p:cNvSpPr/>
          <p:nvPr/>
        </p:nvSpPr>
        <p:spPr>
          <a:xfrm>
            <a:off x="2392200" y="14940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ссмотрите свои собственны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464B-5A50-4096-9210-CA38FA4A12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1" name="Picture 1" descr=""/>
          <p:cNvPicPr/>
          <p:nvPr/>
        </p:nvPicPr>
        <p:blipFill>
          <a:blip r:embed="rId4"/>
          <a:stretch/>
        </p:blipFill>
        <p:spPr>
          <a:xfrm>
            <a:off x="392040" y="3932280"/>
            <a:ext cx="2198880" cy="20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нность внутренних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47636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авливают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особствуют осозна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преждающие и корректирующие действия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повышения квалифик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стандартам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77AC-F92C-4E6E-A54E-B5BE666D25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507600"/>
            <a:ext cx="83818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требования ИСО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7" name="Rectangle 3"/>
          <p:cNvSpPr/>
          <p:nvPr/>
        </p:nvSpPr>
        <p:spPr>
          <a:xfrm>
            <a:off x="685800" y="1371600"/>
            <a:ext cx="82296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а быть программа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должны быть задокументирова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удиторы должны быть независимыми от проверяем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ультаты документируются и передаются руководству для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ение безотлагательных послед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813D-8B73-40EF-A9CF-0F69ACE124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12"/>
          <p:cNvSpPr/>
          <p:nvPr/>
        </p:nvSpPr>
        <p:spPr>
          <a:xfrm>
            <a:off x="457200" y="46548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Text Box 13"/>
          <p:cNvSpPr/>
          <p:nvPr/>
        </p:nvSpPr>
        <p:spPr>
          <a:xfrm>
            <a:off x="304920" y="190512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Не проводите аудит собственной работы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61E6-FB4A-46E7-AFD9-25F1336DE7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Rectangle 2"/>
          <p:cNvSpPr/>
          <p:nvPr/>
        </p:nvSpPr>
        <p:spPr>
          <a:xfrm>
            <a:off x="3886200" y="762120"/>
            <a:ext cx="5029200" cy="48765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5029200" y="175248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Rectangle 4"/>
          <p:cNvSpPr/>
          <p:nvPr/>
        </p:nvSpPr>
        <p:spPr>
          <a:xfrm>
            <a:off x="6248520" y="5181480"/>
            <a:ext cx="266688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рус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Arc 5"/>
          <p:cNvSpPr/>
          <p:nvPr/>
        </p:nvSpPr>
        <p:spPr>
          <a:xfrm>
            <a:off x="7118280" y="2568600"/>
            <a:ext cx="1447920" cy="1523880"/>
          </a:xfrm>
          <a:prstGeom prst="pie">
            <a:avLst/>
          </a:prstGeom>
          <a:gradFill rotWithShape="0">
            <a:gsLst>
              <a:gs pos="0">
                <a:srgbClr val="b27e5e"/>
              </a:gs>
              <a:gs pos="100000">
                <a:srgbClr val="523a2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льмин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Arc 6"/>
          <p:cNvSpPr/>
          <p:nvPr/>
        </p:nvSpPr>
        <p:spPr>
          <a:xfrm rot="5400000">
            <a:off x="5295600" y="3162240"/>
            <a:ext cx="1295640" cy="1676160"/>
          </a:xfrm>
          <a:prstGeom prst="pie">
            <a:avLst/>
          </a:prstGeom>
          <a:solidFill>
            <a:srgbClr val="ffd9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ч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AutoShape 7"/>
          <p:cNvSpPr/>
          <p:nvPr/>
        </p:nvSpPr>
        <p:spPr>
          <a:xfrm rot="10800000">
            <a:off x="7962840" y="3580920"/>
            <a:ext cx="603360" cy="1752840"/>
          </a:xfrm>
          <a:prstGeom prst="downArrow">
            <a:avLst>
              <a:gd name="adj1" fmla="val 55843"/>
              <a:gd name="adj2" fmla="val 87100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AutoShape 8"/>
          <p:cNvSpPr/>
          <p:nvPr/>
        </p:nvSpPr>
        <p:spPr>
          <a:xfrm rot="3939000">
            <a:off x="6377400" y="2399400"/>
            <a:ext cx="537840" cy="1523880"/>
          </a:xfrm>
          <a:prstGeom prst="downArrow">
            <a:avLst>
              <a:gd name="adj1" fmla="val 50000"/>
              <a:gd name="adj2" fmla="val 8338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AutoShape 9"/>
          <p:cNvSpPr/>
          <p:nvPr/>
        </p:nvSpPr>
        <p:spPr>
          <a:xfrm rot="17854200">
            <a:off x="4418640" y="4769280"/>
            <a:ext cx="1833480" cy="536400"/>
          </a:xfrm>
          <a:prstGeom prst="rightArrow">
            <a:avLst>
              <a:gd name="adj1" fmla="val 50000"/>
              <a:gd name="adj2" fmla="val 10950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Text Box 10"/>
          <p:cNvSpPr/>
          <p:nvPr/>
        </p:nvSpPr>
        <p:spPr>
          <a:xfrm>
            <a:off x="4952880" y="19051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Бактери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Text Box 11"/>
          <p:cNvSpPr/>
          <p:nvPr/>
        </p:nvSpPr>
        <p:spPr>
          <a:xfrm>
            <a:off x="4648320" y="674640"/>
            <a:ext cx="419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Лаборатория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Rectangle 14"/>
          <p:cNvSpPr/>
          <p:nvPr/>
        </p:nvSpPr>
        <p:spPr>
          <a:xfrm>
            <a:off x="2362320" y="5029200"/>
            <a:ext cx="251460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сультант, другая 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Group 17"/>
          <p:cNvGrpSpPr/>
          <p:nvPr/>
        </p:nvGrpSpPr>
        <p:grpSpPr>
          <a:xfrm>
            <a:off x="606600" y="785880"/>
            <a:ext cx="8537400" cy="5705280"/>
            <a:chOff x="606600" y="785880"/>
            <a:chExt cx="8537400" cy="5705280"/>
          </a:xfrm>
        </p:grpSpPr>
        <p:grpSp>
          <p:nvGrpSpPr>
            <p:cNvPr id="886" name="Diagram 2"/>
            <p:cNvGrpSpPr/>
            <p:nvPr/>
          </p:nvGrpSpPr>
          <p:grpSpPr>
            <a:xfrm>
              <a:off x="606600" y="785880"/>
              <a:ext cx="8084160" cy="4377960"/>
              <a:chOff x="606600" y="785880"/>
              <a:chExt cx="8084160" cy="4377960"/>
            </a:xfrm>
          </p:grpSpPr>
          <p:sp>
            <p:nvSpPr>
              <p:cNvPr id="887" name="_s1028"/>
              <p:cNvSpPr/>
              <p:nvPr/>
            </p:nvSpPr>
            <p:spPr>
              <a:xfrm flipH="1">
                <a:off x="2702520" y="3809520"/>
                <a:ext cx="969480" cy="5497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8" name="_s1029"/>
              <p:cNvSpPr/>
              <p:nvPr/>
            </p:nvSpPr>
            <p:spPr>
              <a:xfrm>
                <a:off x="606600" y="3734640"/>
                <a:ext cx="2441160" cy="142920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Подготовьте 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документы</a:t>
                </a:r>
                <a:r>
                  <a:rPr b="1" lang="ru-RU" sz="25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br>
                  <a:rPr sz="1500"/>
                </a:b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контрольные списки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формы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9" name="_s1030"/>
              <p:cNvSpPr/>
              <p:nvPr/>
            </p:nvSpPr>
            <p:spPr>
              <a:xfrm>
                <a:off x="5621400" y="4001760"/>
                <a:ext cx="973080" cy="3553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0" name="_s1031"/>
              <p:cNvSpPr/>
              <p:nvPr/>
            </p:nvSpPr>
            <p:spPr>
              <a:xfrm>
                <a:off x="6443280" y="3582000"/>
                <a:ext cx="2247480" cy="158184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Составьте график регулярных аудитов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1" name="_s1032"/>
              <p:cNvSpPr/>
              <p:nvPr/>
            </p:nvSpPr>
            <p:spPr>
              <a:xfrm flipV="1">
                <a:off x="4573440" y="2214720"/>
                <a:ext cx="0" cy="71460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2" name="_s1033"/>
              <p:cNvSpPr/>
              <p:nvPr/>
            </p:nvSpPr>
            <p:spPr>
              <a:xfrm>
                <a:off x="3354120" y="785880"/>
                <a:ext cx="2418120" cy="142920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99"/>
                    </a:solidFill>
                    <a:latin typeface="Verdana"/>
                  </a:rPr>
                  <a:t>Программа внутреннего аудита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3" name="_s1034"/>
              <p:cNvSpPr/>
              <p:nvPr/>
            </p:nvSpPr>
            <p:spPr>
              <a:xfrm>
                <a:off x="3354120" y="2743560"/>
                <a:ext cx="2513520" cy="142956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Распределите обязанности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94" name="Text Box 11"/>
            <p:cNvSpPr/>
            <p:nvPr/>
          </p:nvSpPr>
          <p:spPr>
            <a:xfrm>
              <a:off x="6324480" y="5776920"/>
              <a:ext cx="281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895" name="Picture 12" descr="j0432664"/>
            <p:cNvPicPr/>
            <p:nvPr/>
          </p:nvPicPr>
          <p:blipFill>
            <a:blip r:embed="rId5"/>
            <a:stretch/>
          </p:blipFill>
          <p:spPr>
            <a:xfrm>
              <a:off x="4800600" y="4724280"/>
              <a:ext cx="2590920" cy="17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13" descr="bs00272_"/>
            <p:cNvPicPr/>
            <p:nvPr/>
          </p:nvPicPr>
          <p:blipFill>
            <a:blip r:embed="rId6"/>
            <a:stretch/>
          </p:blipFill>
          <p:spPr>
            <a:xfrm>
              <a:off x="2438280" y="4952880"/>
              <a:ext cx="2057400" cy="139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Picture 14" descr="MCj04349290000[1]"/>
            <p:cNvPicPr/>
            <p:nvPr/>
          </p:nvPicPr>
          <p:blipFill>
            <a:blip r:embed="rId7"/>
            <a:stretch/>
          </p:blipFill>
          <p:spPr>
            <a:xfrm>
              <a:off x="762120" y="1905120"/>
              <a:ext cx="198108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Picture 15" descr="head"/>
            <p:cNvPicPr/>
            <p:nvPr/>
          </p:nvPicPr>
          <p:blipFill>
            <a:blip r:embed="rId8"/>
            <a:stretch/>
          </p:blipFill>
          <p:spPr>
            <a:xfrm>
              <a:off x="6075360" y="1905120"/>
              <a:ext cx="121140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9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F9B2-D8B8-4555-BDB4-CB5736BAF7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14520" y="526680"/>
            <a:ext cx="791496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роцесс для подготовки сотрудников своей лаборатории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ть программу внутренних аудитов и управлять 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, как использовать результаты ауди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ргументировать важность проведения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EDD6-4043-4C1F-A4F3-4D1A49E01B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AutoShape 2"/>
          <p:cNvSpPr/>
          <p:nvPr/>
        </p:nvSpPr>
        <p:spPr>
          <a:xfrm rot="16200000">
            <a:off x="3601800" y="3103560"/>
            <a:ext cx="3463920" cy="609480"/>
          </a:xfrm>
          <a:prstGeom prst="rightArrow">
            <a:avLst>
              <a:gd name="adj1" fmla="val 50000"/>
              <a:gd name="adj2" fmla="val 171581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AutoShape 3"/>
          <p:cNvSpPr/>
          <p:nvPr/>
        </p:nvSpPr>
        <p:spPr>
          <a:xfrm>
            <a:off x="5105520" y="4267080"/>
            <a:ext cx="274320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Rectangle 4"/>
          <p:cNvSpPr/>
          <p:nvPr/>
        </p:nvSpPr>
        <p:spPr>
          <a:xfrm>
            <a:off x="1066680" y="609480"/>
            <a:ext cx="7010640" cy="990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Text Box 5"/>
          <p:cNvSpPr/>
          <p:nvPr/>
        </p:nvSpPr>
        <p:spPr>
          <a:xfrm>
            <a:off x="1066680" y="7873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Руководитель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AutoShape 6"/>
          <p:cNvSpPr/>
          <p:nvPr/>
        </p:nvSpPr>
        <p:spPr>
          <a:xfrm>
            <a:off x="762120" y="228600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Oval 7"/>
          <p:cNvSpPr/>
          <p:nvPr/>
        </p:nvSpPr>
        <p:spPr>
          <a:xfrm>
            <a:off x="380880" y="449568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Rectangle 8"/>
          <p:cNvSpPr/>
          <p:nvPr/>
        </p:nvSpPr>
        <p:spPr>
          <a:xfrm>
            <a:off x="5791320" y="2879640"/>
            <a:ext cx="2895480" cy="14637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Text Box 9"/>
          <p:cNvSpPr/>
          <p:nvPr/>
        </p:nvSpPr>
        <p:spPr>
          <a:xfrm>
            <a:off x="914400" y="2286000"/>
            <a:ext cx="3048120" cy="1410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определяет правила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Text Box 10"/>
          <p:cNvSpPr/>
          <p:nvPr/>
        </p:nvSpPr>
        <p:spPr>
          <a:xfrm>
            <a:off x="457200" y="4648320"/>
            <a:ext cx="396252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распределя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бязан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по программ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внутренних аудитов</a:t>
            </a:r>
            <a:br>
              <a:rPr sz="1800"/>
            </a:b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Менеджер по каче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Text Box 11"/>
          <p:cNvSpPr/>
          <p:nvPr/>
        </p:nvSpPr>
        <p:spPr>
          <a:xfrm>
            <a:off x="5257800" y="489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Text Box 12"/>
          <p:cNvSpPr/>
          <p:nvPr/>
        </p:nvSpPr>
        <p:spPr>
          <a:xfrm>
            <a:off x="5791320" y="2921040"/>
            <a:ext cx="2971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поддерживает проведение  корректирующих 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AutoShape 13"/>
          <p:cNvSpPr/>
          <p:nvPr/>
        </p:nvSpPr>
        <p:spPr>
          <a:xfrm rot="5400000">
            <a:off x="2018880" y="1409760"/>
            <a:ext cx="685800" cy="1066680"/>
          </a:xfrm>
          <a:custGeom>
            <a:avLst/>
            <a:gdLst>
              <a:gd name="textAreaLeft" fmla="*/ 106920 w 685800"/>
              <a:gd name="textAreaRight" fmla="*/ 600120 w 68580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AutoShape 14"/>
          <p:cNvSpPr/>
          <p:nvPr/>
        </p:nvSpPr>
        <p:spPr>
          <a:xfrm rot="5400000">
            <a:off x="2018880" y="3543120"/>
            <a:ext cx="761760" cy="1143000"/>
          </a:xfrm>
          <a:custGeom>
            <a:avLst/>
            <a:gdLst>
              <a:gd name="textAreaLeft" fmla="*/ 118800 w 761760"/>
              <a:gd name="textAreaRight" fmla="*/ 666720 w 76176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AutoShape 15"/>
          <p:cNvSpPr/>
          <p:nvPr/>
        </p:nvSpPr>
        <p:spPr>
          <a:xfrm rot="5400000">
            <a:off x="6514920" y="1638360"/>
            <a:ext cx="1066680" cy="114300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AutoShape 16"/>
          <p:cNvSpPr/>
          <p:nvPr/>
        </p:nvSpPr>
        <p:spPr>
          <a:xfrm>
            <a:off x="4038480" y="5486400"/>
            <a:ext cx="1295640" cy="457200"/>
          </a:xfrm>
          <a:prstGeom prst="rightArrow">
            <a:avLst>
              <a:gd name="adj1" fmla="val 50000"/>
              <a:gd name="adj2" fmla="val 7501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AutoShape 19"/>
          <p:cNvSpPr/>
          <p:nvPr/>
        </p:nvSpPr>
        <p:spPr>
          <a:xfrm>
            <a:off x="457200" y="5486400"/>
            <a:ext cx="387360" cy="533520"/>
          </a:xfrm>
          <a:custGeom>
            <a:avLst/>
            <a:gdLst>
              <a:gd name="textAreaLeft" fmla="*/ 60480 w 387360"/>
              <a:gd name="textAreaRight" fmla="*/ 339120 w 387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Slide Number Placeholder 1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A39B-77BF-4818-9DF9-DC1ED72B9E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Footer Placeholder 1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Text Box 2"/>
          <p:cNvSpPr/>
          <p:nvPr/>
        </p:nvSpPr>
        <p:spPr>
          <a:xfrm>
            <a:off x="304920" y="609480"/>
            <a:ext cx="8458200" cy="1014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Verdana"/>
              </a:rPr>
              <a:t>Обязанности менеджера по качеств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вести и поддерживать систему внутренних аудит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Oval 3"/>
          <p:cNvSpPr/>
          <p:nvPr/>
        </p:nvSpPr>
        <p:spPr>
          <a:xfrm>
            <a:off x="3048120" y="2438280"/>
            <a:ext cx="3124080" cy="1600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Text Box 4"/>
          <p:cNvSpPr/>
          <p:nvPr/>
        </p:nvSpPr>
        <p:spPr>
          <a:xfrm>
            <a:off x="3200400" y="281952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координирова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ь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 процесс 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AutoShape 7"/>
          <p:cNvSpPr/>
          <p:nvPr/>
        </p:nvSpPr>
        <p:spPr>
          <a:xfrm rot="5400000">
            <a:off x="4228920" y="1638360"/>
            <a:ext cx="609840" cy="838080"/>
          </a:xfrm>
          <a:custGeom>
            <a:avLst/>
            <a:gdLst>
              <a:gd name="textAreaLeft" fmla="*/ 95040 w 609840"/>
              <a:gd name="textAreaRight" fmla="*/ 533880 w 6098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AutoShape 10"/>
          <p:cNvSpPr/>
          <p:nvPr/>
        </p:nvSpPr>
        <p:spPr>
          <a:xfrm>
            <a:off x="3429000" y="4419720"/>
            <a:ext cx="2286000" cy="167616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Oval 11"/>
          <p:cNvSpPr/>
          <p:nvPr/>
        </p:nvSpPr>
        <p:spPr>
          <a:xfrm>
            <a:off x="6705720" y="5029200"/>
            <a:ext cx="2133360" cy="11430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Oval 12"/>
          <p:cNvSpPr/>
          <p:nvPr/>
        </p:nvSpPr>
        <p:spPr>
          <a:xfrm>
            <a:off x="380880" y="5105520"/>
            <a:ext cx="1981440" cy="990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Text Box 13"/>
          <p:cNvSpPr/>
          <p:nvPr/>
        </p:nvSpPr>
        <p:spPr>
          <a:xfrm>
            <a:off x="457200" y="5181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сотрудника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Text Box 14"/>
          <p:cNvSpPr/>
          <p:nvPr/>
        </p:nvSpPr>
        <p:spPr>
          <a:xfrm>
            <a:off x="6781680" y="5226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руковод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AutoShape 16"/>
          <p:cNvSpPr/>
          <p:nvPr/>
        </p:nvSpPr>
        <p:spPr>
          <a:xfrm>
            <a:off x="5410080" y="5410080"/>
            <a:ext cx="1371600" cy="45720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AutoShape 17"/>
          <p:cNvSpPr/>
          <p:nvPr/>
        </p:nvSpPr>
        <p:spPr>
          <a:xfrm rot="10800000">
            <a:off x="228600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AutoShape 21"/>
          <p:cNvSpPr/>
          <p:nvPr/>
        </p:nvSpPr>
        <p:spPr>
          <a:xfrm>
            <a:off x="152280" y="2651040"/>
            <a:ext cx="2133720" cy="7779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Text Box 22"/>
          <p:cNvSpPr/>
          <p:nvPr/>
        </p:nvSpPr>
        <p:spPr>
          <a:xfrm>
            <a:off x="228600" y="2666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разработать 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графи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AutoShape 23"/>
          <p:cNvSpPr/>
          <p:nvPr/>
        </p:nvSpPr>
        <p:spPr>
          <a:xfrm rot="11374200">
            <a:off x="2199960" y="2861640"/>
            <a:ext cx="1000080" cy="555480"/>
          </a:xfrm>
          <a:custGeom>
            <a:avLst/>
            <a:gdLst>
              <a:gd name="textAreaLeft" fmla="*/ 156240 w 1000080"/>
              <a:gd name="textAreaRight" fmla="*/ 875160 w 10000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AutoShape 24"/>
          <p:cNvSpPr/>
          <p:nvPr/>
        </p:nvSpPr>
        <p:spPr>
          <a:xfrm>
            <a:off x="152280" y="3565440"/>
            <a:ext cx="2133720" cy="990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Text Box 25"/>
          <p:cNvSpPr/>
          <p:nvPr/>
        </p:nvSpPr>
        <p:spPr>
          <a:xfrm>
            <a:off x="304920" y="356544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выбрать и</a:t>
            </a: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обучить аудитор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AutoShape 26"/>
          <p:cNvSpPr/>
          <p:nvPr/>
        </p:nvSpPr>
        <p:spPr>
          <a:xfrm rot="9818400">
            <a:off x="2244240" y="3549600"/>
            <a:ext cx="954360" cy="555840"/>
          </a:xfrm>
          <a:custGeom>
            <a:avLst/>
            <a:gdLst>
              <a:gd name="textAreaLeft" fmla="*/ 149040 w 954360"/>
              <a:gd name="textAreaRight" fmla="*/ 835200 w 954360"/>
              <a:gd name="textAreaTop" fmla="*/ 138960 h 555840"/>
              <a:gd name="textAreaBottom" fmla="*/ 416880 h 555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Slide Number Placeholder 2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7D6B-449E-414A-BC90-863E02F6AA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Footer Placeholder 2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AutoShape 31"/>
          <p:cNvSpPr/>
          <p:nvPr/>
        </p:nvSpPr>
        <p:spPr>
          <a:xfrm>
            <a:off x="6451560" y="2743200"/>
            <a:ext cx="2387520" cy="9810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Text Box 5"/>
          <p:cNvSpPr/>
          <p:nvPr/>
        </p:nvSpPr>
        <p:spPr>
          <a:xfrm>
            <a:off x="6451560" y="281952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управлять корректирующими действия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AutoShape 6"/>
          <p:cNvSpPr/>
          <p:nvPr/>
        </p:nvSpPr>
        <p:spPr>
          <a:xfrm rot="19251600">
            <a:off x="5284800" y="4073040"/>
            <a:ext cx="2023920" cy="484200"/>
          </a:xfrm>
          <a:custGeom>
            <a:avLst/>
            <a:gdLst>
              <a:gd name="textAreaLeft" fmla="*/ 316080 w 2023920"/>
              <a:gd name="textAreaRight" fmla="*/ 1771200 w 202392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TextBox 1"/>
          <p:cNvSpPr/>
          <p:nvPr/>
        </p:nvSpPr>
        <p:spPr>
          <a:xfrm>
            <a:off x="3726360" y="4851360"/>
            <a:ext cx="184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зультат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утренни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внутренних аудит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142640" y="1294920"/>
            <a:ext cx="762012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контрольные спис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од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 проанализируйте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шите результа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заключитель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е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CB88-9AEF-49A4-BC4D-D0F198AE90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Picture 1" descr=""/>
          <p:cNvPicPr/>
          <p:nvPr/>
        </p:nvPicPr>
        <p:blipFill>
          <a:blip r:embed="rId1"/>
          <a:stretch/>
        </p:blipFill>
        <p:spPr>
          <a:xfrm>
            <a:off x="3171960" y="3726000"/>
            <a:ext cx="2752560" cy="2557440"/>
          </a:xfrm>
          <a:prstGeom prst="rect">
            <a:avLst/>
          </a:prstGeom>
          <a:ln w="0">
            <a:noFill/>
          </a:ln>
        </p:spPr>
      </p:pic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график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33520" y="1380600"/>
            <a:ext cx="8229600" cy="22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одите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олее частые аудиты там, где проблемы, или на участках, нуждающихся в улучш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шаг за шагом аудиты должны рассмотреть все элементы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9" name="Diagram 2"/>
          <p:cNvGrpSpPr/>
          <p:nvPr/>
        </p:nvGrpSpPr>
        <p:grpSpPr>
          <a:xfrm>
            <a:off x="2989440" y="3763800"/>
            <a:ext cx="2876760" cy="2556720"/>
            <a:chOff x="2989440" y="3763800"/>
            <a:chExt cx="2876760" cy="2556720"/>
          </a:xfrm>
        </p:grpSpPr>
        <p:sp>
          <p:nvSpPr>
            <p:cNvPr id="950" name="_s2052"/>
            <p:cNvSpPr/>
            <p:nvPr/>
          </p:nvSpPr>
          <p:spPr>
            <a:xfrm>
              <a:off x="3535920" y="3907080"/>
              <a:ext cx="2026080" cy="1960560"/>
            </a:xfrm>
            <a:custGeom>
              <a:avLst/>
              <a:gdLst>
                <a:gd name="textAreaLeft" fmla="*/ 297000 w 2026080"/>
                <a:gd name="textAreaRight" fmla="*/ 1729080 w 2026080"/>
                <a:gd name="textAreaTop" fmla="*/ 286560 h 1960560"/>
                <a:gd name="textAreaBottom" fmla="*/ 1674000 h 196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1" name="_s2053"/>
            <p:cNvSpPr/>
            <p:nvPr/>
          </p:nvSpPr>
          <p:spPr>
            <a:xfrm rot="5695200">
              <a:off x="3698640" y="4101120"/>
              <a:ext cx="1829880" cy="2356920"/>
            </a:xfrm>
            <a:custGeom>
              <a:avLst/>
              <a:gdLst>
                <a:gd name="textAreaLeft" fmla="*/ 267840 w 1829880"/>
                <a:gd name="textAreaRight" fmla="*/ 1562040 w 1829880"/>
                <a:gd name="textAreaTop" fmla="*/ 344880 h 2356920"/>
                <a:gd name="textAreaBottom" fmla="*/ 2012040 h 23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2" name="_s2054"/>
            <p:cNvSpPr/>
            <p:nvPr/>
          </p:nvSpPr>
          <p:spPr>
            <a:xfrm rot="15971400">
              <a:off x="3524040" y="4209120"/>
              <a:ext cx="1839960" cy="2238120"/>
            </a:xfrm>
            <a:custGeom>
              <a:avLst/>
              <a:gdLst>
                <a:gd name="textAreaLeft" fmla="*/ 269640 w 1839960"/>
                <a:gd name="textAreaRight" fmla="*/ 1570320 w 1839960"/>
                <a:gd name="textAreaTop" fmla="*/ 327600 h 2238120"/>
                <a:gd name="textAreaBottom" fmla="*/ 1910520 h 223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3" name="_s2055"/>
            <p:cNvSpPr/>
            <p:nvPr/>
          </p:nvSpPr>
          <p:spPr>
            <a:xfrm>
              <a:off x="491220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4" name="_s2056"/>
            <p:cNvSpPr/>
            <p:nvPr/>
          </p:nvSpPr>
          <p:spPr>
            <a:xfrm>
              <a:off x="3950640" y="5275440"/>
              <a:ext cx="81324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5" name="_s2057"/>
            <p:cNvSpPr/>
            <p:nvPr/>
          </p:nvSpPr>
          <p:spPr>
            <a:xfrm>
              <a:off x="298944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5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40AC-ABF9-4F38-8B44-FC40465ED0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21920" y="44892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874800" y="1477800"/>
            <a:ext cx="5449680" cy="19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онтрольные спис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азработайте формы для записи корректирующих действий и для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0" name="Picture 5" descr="MCj04349290000[1]"/>
          <p:cNvPicPr/>
          <p:nvPr/>
        </p:nvPicPr>
        <p:blipFill>
          <a:blip r:embed="rId1"/>
          <a:stretch/>
        </p:blipFill>
        <p:spPr>
          <a:xfrm>
            <a:off x="6629400" y="10666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961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4406-2B5E-4F2D-904D-D9CD75EC26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3" name="Picture 2" descr=""/>
          <p:cNvPicPr/>
          <p:nvPr/>
        </p:nvPicPr>
        <p:blipFill>
          <a:blip r:embed="rId2"/>
          <a:stretch/>
        </p:blipFill>
        <p:spPr>
          <a:xfrm>
            <a:off x="2998800" y="3892680"/>
            <a:ext cx="3021120" cy="23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4" name="Diagram 2"/>
          <p:cNvGrpSpPr/>
          <p:nvPr/>
        </p:nvGrpSpPr>
        <p:grpSpPr>
          <a:xfrm>
            <a:off x="609480" y="758880"/>
            <a:ext cx="7878240" cy="5334840"/>
            <a:chOff x="609480" y="758880"/>
            <a:chExt cx="7878240" cy="5334840"/>
          </a:xfrm>
        </p:grpSpPr>
        <p:sp>
          <p:nvSpPr>
            <p:cNvPr id="965" name="_s3076"/>
            <p:cNvSpPr/>
            <p:nvPr/>
          </p:nvSpPr>
          <p:spPr>
            <a:xfrm flipH="1" flipV="1">
              <a:off x="2869560" y="3141360"/>
              <a:ext cx="925920" cy="21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6" name="_s3077"/>
            <p:cNvSpPr/>
            <p:nvPr/>
          </p:nvSpPr>
          <p:spPr>
            <a:xfrm>
              <a:off x="609480" y="2219400"/>
              <a:ext cx="2306160" cy="141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Эффективное взаимодействие с людьм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7" name="_s3078"/>
            <p:cNvSpPr/>
            <p:nvPr/>
          </p:nvSpPr>
          <p:spPr>
            <a:xfrm flipH="1">
              <a:off x="3578040" y="4150440"/>
              <a:ext cx="57132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8" name="_s3079"/>
            <p:cNvSpPr/>
            <p:nvPr/>
          </p:nvSpPr>
          <p:spPr>
            <a:xfrm>
              <a:off x="1764000" y="4682880"/>
              <a:ext cx="2216880" cy="141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омпетентность: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Специальные знания</a:t>
              </a:r>
              <a:r>
                <a:rPr b="1" lang="en-US" sz="1700" spc="-1" strike="noStrike">
                  <a:solidFill>
                    <a:srgbClr val="000000"/>
                  </a:solidFill>
                  <a:latin typeface="Verdana"/>
                </a:rPr>
                <a:t>/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Управление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ачеством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9" name="_s3080"/>
            <p:cNvSpPr/>
            <p:nvPr/>
          </p:nvSpPr>
          <p:spPr>
            <a:xfrm>
              <a:off x="5298480" y="4150440"/>
              <a:ext cx="57456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0" name="_s3081"/>
            <p:cNvSpPr/>
            <p:nvPr/>
          </p:nvSpPr>
          <p:spPr>
            <a:xfrm>
              <a:off x="5561640" y="4682880"/>
              <a:ext cx="2286000" cy="141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Дипломатичны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1" name="_s3082"/>
            <p:cNvSpPr/>
            <p:nvPr/>
          </p:nvSpPr>
          <p:spPr>
            <a:xfrm flipV="1">
              <a:off x="5652720" y="3143880"/>
              <a:ext cx="928440" cy="218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2" name="_s3083"/>
            <p:cNvSpPr/>
            <p:nvPr/>
          </p:nvSpPr>
          <p:spPr>
            <a:xfrm>
              <a:off x="6532920" y="2219400"/>
              <a:ext cx="1954800" cy="141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ученный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3" name="_s3084"/>
            <p:cNvSpPr/>
            <p:nvPr/>
          </p:nvSpPr>
          <p:spPr>
            <a:xfrm flipV="1">
              <a:off x="4724280" y="2169360"/>
              <a:ext cx="0" cy="705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4" name="_s3085"/>
            <p:cNvSpPr/>
            <p:nvPr/>
          </p:nvSpPr>
          <p:spPr>
            <a:xfrm>
              <a:off x="3746880" y="758880"/>
              <a:ext cx="1954080" cy="141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Внимание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 деталя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5" name="_s3086"/>
            <p:cNvSpPr/>
            <p:nvPr/>
          </p:nvSpPr>
          <p:spPr>
            <a:xfrm>
              <a:off x="3746880" y="2875320"/>
              <a:ext cx="1954080" cy="1411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76" name="Picture 15" descr="bs01872_"/>
          <p:cNvPicPr/>
          <p:nvPr/>
        </p:nvPicPr>
        <p:blipFill>
          <a:blip r:embed="rId7"/>
          <a:stretch/>
        </p:blipFill>
        <p:spPr>
          <a:xfrm>
            <a:off x="1752480" y="685800"/>
            <a:ext cx="2057400" cy="14652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6" descr="MCj02352750000[1]"/>
          <p:cNvPicPr/>
          <p:nvPr/>
        </p:nvPicPr>
        <p:blipFill>
          <a:blip r:embed="rId8"/>
          <a:stretch/>
        </p:blipFill>
        <p:spPr>
          <a:xfrm>
            <a:off x="3962520" y="457200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7" descr="MCj02341200000[1]"/>
          <p:cNvPicPr/>
          <p:nvPr/>
        </p:nvPicPr>
        <p:blipFill>
          <a:blip r:embed="rId9"/>
          <a:stretch/>
        </p:blipFill>
        <p:spPr>
          <a:xfrm>
            <a:off x="7086600" y="3657600"/>
            <a:ext cx="1555920" cy="175248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8" descr="bd20208_"/>
          <p:cNvPicPr/>
          <p:nvPr/>
        </p:nvPicPr>
        <p:blipFill>
          <a:blip r:embed="rId10"/>
          <a:stretch/>
        </p:blipFill>
        <p:spPr>
          <a:xfrm>
            <a:off x="6019920" y="758880"/>
            <a:ext cx="2278080" cy="1434960"/>
          </a:xfrm>
          <a:prstGeom prst="rect">
            <a:avLst/>
          </a:prstGeom>
          <a:ln w="0">
            <a:noFill/>
          </a:ln>
        </p:spPr>
      </p:pic>
      <p:sp>
        <p:nvSpPr>
          <p:cNvPr id="980" name="Text Box 20"/>
          <p:cNvSpPr/>
          <p:nvPr/>
        </p:nvSpPr>
        <p:spPr>
          <a:xfrm>
            <a:off x="3581280" y="2590920"/>
            <a:ext cx="2322720" cy="1697040"/>
          </a:xfrm>
          <a:prstGeom prst="rect">
            <a:avLst/>
          </a:prstGeom>
          <a:solidFill>
            <a:srgbClr val="99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Verdana"/>
              </a:rPr>
              <a:t>Навыки, нужные аудитора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6EA2-226F-4E1D-90B9-579ADB4411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12" descr="pe03301_"/>
          <p:cNvPicPr/>
          <p:nvPr/>
        </p:nvPicPr>
        <p:blipFill>
          <a:blip r:embed="rId11"/>
          <a:stretch/>
        </p:blipFill>
        <p:spPr>
          <a:xfrm>
            <a:off x="349200" y="3429000"/>
            <a:ext cx="140328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AutoShape 2"/>
          <p:cNvSpPr/>
          <p:nvPr/>
        </p:nvSpPr>
        <p:spPr>
          <a:xfrm>
            <a:off x="1523880" y="182880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AutoShape 3"/>
          <p:cNvSpPr/>
          <p:nvPr/>
        </p:nvSpPr>
        <p:spPr>
          <a:xfrm rot="5400000">
            <a:off x="2019240" y="3009960"/>
            <a:ext cx="914400" cy="129528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 должен приводи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AutoShape 5"/>
          <p:cNvSpPr/>
          <p:nvPr/>
        </p:nvSpPr>
        <p:spPr>
          <a:xfrm>
            <a:off x="990720" y="4419720"/>
            <a:ext cx="3047760" cy="14475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озможности для улучше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AutoShape 6"/>
          <p:cNvSpPr/>
          <p:nvPr/>
        </p:nvSpPr>
        <p:spPr>
          <a:xfrm rot="20101800">
            <a:off x="3879360" y="3516120"/>
            <a:ext cx="2038320" cy="1295280"/>
          </a:xfrm>
          <a:custGeom>
            <a:avLst/>
            <a:gdLst>
              <a:gd name="textAreaLeft" fmla="*/ 318240 w 2038320"/>
              <a:gd name="textAreaRight" fmla="*/ 1783800 w 203832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AutoShape 7"/>
          <p:cNvSpPr/>
          <p:nvPr/>
        </p:nvSpPr>
        <p:spPr>
          <a:xfrm>
            <a:off x="5791320" y="1828800"/>
            <a:ext cx="3200400" cy="3124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Действуй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D0F6-7E49-4140-9D5B-17CF529C6D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Footer Placeholder 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рректирующие действ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993" name="Picture 4" descr="j0435880"/>
          <p:cNvPicPr/>
          <p:nvPr/>
        </p:nvPicPr>
        <p:blipFill>
          <a:blip r:embed="rId1"/>
          <a:stretch/>
        </p:blipFill>
        <p:spPr>
          <a:xfrm>
            <a:off x="5257800" y="2743200"/>
            <a:ext cx="3124080" cy="2705040"/>
          </a:xfrm>
          <a:prstGeom prst="rect">
            <a:avLst/>
          </a:prstGeom>
          <a:ln w="0">
            <a:noFill/>
          </a:ln>
        </p:spPr>
      </p:pic>
      <p:sp>
        <p:nvSpPr>
          <p:cNvPr id="994" name="Text Box 6"/>
          <p:cNvSpPr/>
          <p:nvPr/>
        </p:nvSpPr>
        <p:spPr>
          <a:xfrm>
            <a:off x="457200" y="4800600"/>
            <a:ext cx="5791320" cy="106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то ответственны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? </a:t>
            </a: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Verdana"/>
              </a:rPr>
              <a:t>Менеджер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88AE-C7A2-4AD8-8ECE-E90A9511E6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85440" y="1999800"/>
            <a:ext cx="7467480" cy="15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о шаги, предпринятые для улучшения процессов или исправления недостатк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корректирующих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736200" y="1887120"/>
            <a:ext cx="810252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омандой по разрешению пробле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дите корневую причину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план соответствующих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х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 всех действий и выв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наблюд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6192-7790-4B72-BC5C-EFF0E68B4B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регистрации возможностей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3" name="Rectangle 67"/>
          <p:cNvSpPr/>
          <p:nvPr/>
        </p:nvSpPr>
        <p:spPr>
          <a:xfrm>
            <a:off x="609480" y="7162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Rectangle 79"/>
          <p:cNvSpPr/>
          <p:nvPr/>
        </p:nvSpPr>
        <p:spPr>
          <a:xfrm>
            <a:off x="1676520" y="1984320"/>
            <a:ext cx="5715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тирующие действия являются результатом: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   ___   _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ытия              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_      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утреннего аудита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   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   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ешнего аудита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5" name=""/>
          <p:cNvGraphicFramePr/>
          <p:nvPr/>
        </p:nvGraphicFramePr>
        <p:xfrm>
          <a:off x="1676520" y="2975040"/>
          <a:ext cx="5716440" cy="1747800"/>
        </p:xfrm>
        <a:graphic>
          <a:graphicData uri="http://schemas.openxmlformats.org/drawingml/2006/table">
            <a:tbl>
              <a:tblPr/>
              <a:tblGrid>
                <a:gridCol w="5716440"/>
              </a:tblGrid>
              <a:tr h="38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проблемы или выводов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случилось и почему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бщено: (Имя сотрудника) 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6" name=""/>
          <p:cNvGraphicFramePr/>
          <p:nvPr/>
        </p:nvGraphicFramePr>
        <p:xfrm>
          <a:off x="1676520" y="4905360"/>
          <a:ext cx="5715000" cy="1206360"/>
        </p:xfrm>
        <a:graphic>
          <a:graphicData uri="http://schemas.openxmlformats.org/drawingml/2006/table">
            <a:tbl>
              <a:tblPr/>
              <a:tblGrid>
                <a:gridCol w="571500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ные корректирующие действия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было сделано, чтобы предотвратить повторение?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07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BA46-A6C1-4ECC-902D-26664FCB92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TextBox 1"/>
          <p:cNvSpPr/>
          <p:nvPr/>
        </p:nvSpPr>
        <p:spPr>
          <a:xfrm>
            <a:off x="3059640" y="175248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корректирующих действ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3520" y="1952280"/>
            <a:ext cx="815328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ы являетесь менеджером по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честву в лаборатории 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хотите организовать внутренни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удит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Какие шаги вы предпримете</a:t>
            </a: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9EC5-E0F6-4E58-B941-E82048B6B6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76DB-9D2B-4B7F-B118-D0049910F6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Oval 9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Text Box 10"/>
          <p:cNvSpPr/>
          <p:nvPr/>
        </p:nvSpPr>
        <p:spPr>
          <a:xfrm>
            <a:off x="2438280" y="190512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Постоянное отслеживание –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это ключ к успеху в системе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Picture 4" descr="MCj04326350000[1]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5" descr="MCj0215356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7" descr="MCj01567530000[1]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C203-333B-4682-8F3F-A8E3FD69D0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19" name="Diagram 46"/>
          <p:cNvGrpSpPr/>
          <p:nvPr/>
        </p:nvGrpSpPr>
        <p:grpSpPr>
          <a:xfrm>
            <a:off x="533520" y="533520"/>
            <a:ext cx="8229240" cy="6152040"/>
            <a:chOff x="533520" y="533520"/>
            <a:chExt cx="8229240" cy="6152040"/>
          </a:xfrm>
        </p:grpSpPr>
        <p:sp>
          <p:nvSpPr>
            <p:cNvPr id="1020" name="AutoShape 45"/>
            <p:cNvSpPr/>
            <p:nvPr/>
          </p:nvSpPr>
          <p:spPr>
            <a:xfrm>
              <a:off x="533520" y="533520"/>
              <a:ext cx="8229240" cy="58017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1" name="_s1028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780120 w 5317200"/>
                <a:gd name="textAreaRight" fmla="*/ 4537080 w 5317200"/>
                <a:gd name="textAreaTop" fmla="*/ 549720 h 3748680"/>
                <a:gd name="textAreaBottom" fmla="*/ 319896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2" name="_s1029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920"/>
                <a:gd name="textAreaBottom" fmla="*/ 453780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3" name="_s1030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200"/>
                <a:gd name="textAreaBottom" fmla="*/ 453708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4" name="_s1031"/>
            <p:cNvSpPr/>
            <p:nvPr/>
          </p:nvSpPr>
          <p:spPr>
            <a:xfrm>
              <a:off x="533520" y="1470600"/>
              <a:ext cx="2896920" cy="22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Отслеживание</a:t>
              </a:r>
              <a:r>
                <a:rPr b="1" lang="en-US" sz="2000" spc="-1" strike="noStrike">
                  <a:solidFill>
                    <a:srgbClr val="f1e21f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и оценк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удовлетворенность клиентов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нтроль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проверк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мпетентност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ауди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5" name="_s1032"/>
            <p:cNvSpPr/>
            <p:nvPr/>
          </p:nvSpPr>
          <p:spPr>
            <a:xfrm>
              <a:off x="3582000" y="4735800"/>
              <a:ext cx="243756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  <a:ea typeface="Times New Roman"/>
                </a:rPr>
                <a:t>План корректирующих действи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6" name="_s1033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</a:rPr>
                <a:t>План по улучшению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7" name="Text Box 65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прерывное улучшение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F187-0CDE-4A7C-9BC8-F4907D0403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Text Box 2"/>
          <p:cNvSpPr/>
          <p:nvPr/>
        </p:nvSpPr>
        <p:spPr>
          <a:xfrm>
            <a:off x="685800" y="914400"/>
            <a:ext cx="7696080" cy="48942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«Важно не то, что вы обнаружили…,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важно то, что вы сделали с тем, что вы обнаружили"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6840" y="1181160"/>
            <a:ext cx="839484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я роль оценки – в отслеживании эффективности системы управления качеством в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 внешние, и внутренние аудиты дают полезную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результатам оценки выявляют корневые причины проблем и проводят корректирующие 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B11E-DDFC-4EFA-8EEE-79C797BAA7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лаборатории должны организовать программу внутренних аудитов. При регулярном проведении программа будет предоставлять информацию для непрерывного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лемы превратятся в возможности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A77D-EAAC-4A47-B11B-AA43DE7DC4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E4E2-8C4D-4157-8B95-2A4A2AB3C8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04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04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5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05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05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05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06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6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06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06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06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7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07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07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8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08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08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9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09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09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09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9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31CF-D911-455E-81F5-E967B859EC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67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9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69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69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69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9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9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9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69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0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70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70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0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0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70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71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1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71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1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71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2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2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72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2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72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3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73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73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452520"/>
            <a:ext cx="791532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–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тический анализ некоторых (или всех) составных частей системы качеств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6" name="Picture 34" descr="spy_guy"/>
          <p:cNvPicPr/>
          <p:nvPr/>
        </p:nvPicPr>
        <p:blipFill>
          <a:blip r:embed="rId1"/>
          <a:stretch/>
        </p:blipFill>
        <p:spPr>
          <a:xfrm>
            <a:off x="1752480" y="39625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73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5B37-43D2-42DE-BA48-4187884E40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9" name="Picture 1" descr=""/>
          <p:cNvPicPr/>
          <p:nvPr/>
        </p:nvPicPr>
        <p:blipFill>
          <a:blip r:embed="rId2"/>
          <a:stretch/>
        </p:blipFill>
        <p:spPr>
          <a:xfrm>
            <a:off x="4114800" y="3535200"/>
            <a:ext cx="3084480" cy="28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ubOvalCallout"/>
          <p:cNvSpPr/>
          <p:nvPr/>
        </p:nvSpPr>
        <p:spPr>
          <a:xfrm>
            <a:off x="457200" y="1523880"/>
            <a:ext cx="6172200" cy="4953240"/>
          </a:xfrm>
          <a:custGeom>
            <a:avLst/>
            <a:gdLst>
              <a:gd name="textAreaLeft" fmla="*/ 903600 w 6172200"/>
              <a:gd name="textAreaRight" fmla="*/ 5268600 w 6172200"/>
              <a:gd name="textAreaTop" fmla="*/ 544320 h 4953240"/>
              <a:gd name="textAreaBottom" fmla="*/ 3173040 h 495324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8"/>
                </a:lnTo>
                <a:cubicBezTo>
                  <a:pt x="9991" y="16192"/>
                  <a:pt x="10395" y="16210"/>
                  <a:pt x="10800" y="16210"/>
                </a:cubicBezTo>
                <a:cubicBezTo>
                  <a:pt x="16764" y="16210"/>
                  <a:pt x="21600" y="12581"/>
                  <a:pt x="21600" y="8105"/>
                </a:cubicBezTo>
                <a:cubicBezTo>
                  <a:pt x="21600" y="3628"/>
                  <a:pt x="16764" y="0"/>
                  <a:pt x="10800" y="0"/>
                </a:cubicBezTo>
                <a:cubicBezTo>
                  <a:pt x="4835" y="0"/>
                  <a:pt x="0" y="3628"/>
                  <a:pt x="0" y="8105"/>
                </a:cubicBezTo>
                <a:cubicBezTo>
                  <a:pt x="-1" y="10568"/>
                  <a:pt x="1493" y="12898"/>
                  <a:pt x="4057" y="14436"/>
                </a:cubicBezTo>
                <a:lnTo>
                  <a:pt x="12321" y="216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ценка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464796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Спрашивают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3" name="Picture 5" descr="j0234625"/>
          <p:cNvPicPr/>
          <p:nvPr/>
        </p:nvPicPr>
        <p:blipFill>
          <a:blip r:embed="rId1"/>
          <a:stretch/>
        </p:blipFill>
        <p:spPr>
          <a:xfrm>
            <a:off x="6516720" y="2438280"/>
            <a:ext cx="2322360" cy="259092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6"/>
          <p:cNvSpPr/>
          <p:nvPr/>
        </p:nvSpPr>
        <p:spPr>
          <a:xfrm>
            <a:off x="1219320" y="2600280"/>
            <a:ext cx="54864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Что делается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Соответствует ли это задокументированным правилам и процедурам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54E2-4EE5-49E1-9960-2D31DED47D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6840" y="52524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чего проводят оценку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6840" y="1592280"/>
            <a:ext cx="8001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ь, «где мы находимся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отношении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ь расхожд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ить информацию д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ния и внедр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го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578F-CCF0-4395-A307-077656D0DB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1" name="Picture 4" descr="MCBD19903_0000[1]"/>
          <p:cNvPicPr/>
          <p:nvPr/>
        </p:nvPicPr>
        <p:blipFill>
          <a:blip r:embed="rId1"/>
          <a:stretch/>
        </p:blipFill>
        <p:spPr>
          <a:xfrm>
            <a:off x="7086600" y="2873520"/>
            <a:ext cx="190512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Group 14"/>
          <p:cNvGrpSpPr/>
          <p:nvPr/>
        </p:nvGrpSpPr>
        <p:grpSpPr>
          <a:xfrm>
            <a:off x="685800" y="1219320"/>
            <a:ext cx="4495680" cy="4876560"/>
            <a:chOff x="685800" y="1219320"/>
            <a:chExt cx="4495680" cy="4876560"/>
          </a:xfrm>
        </p:grpSpPr>
        <p:pic>
          <p:nvPicPr>
            <p:cNvPr id="753" name="Picture 5" descr="lab_design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449568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 Box 12"/>
            <p:cNvSpPr/>
            <p:nvPr/>
          </p:nvSpPr>
          <p:spPr>
            <a:xfrm>
              <a:off x="3803400" y="2560680"/>
              <a:ext cx="1152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5" name="TextBox 17"/>
            <p:cNvSpPr/>
            <p:nvPr/>
          </p:nvSpPr>
          <p:spPr>
            <a:xfrm>
              <a:off x="1357200" y="5286240"/>
              <a:ext cx="630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иохим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ер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6" name="TextBox 18"/>
            <p:cNvSpPr/>
            <p:nvPr/>
          </p:nvSpPr>
          <p:spPr>
            <a:xfrm>
              <a:off x="2688480" y="5384880"/>
              <a:ext cx="10098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ожидан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7" name="TextBox 19"/>
            <p:cNvSpPr/>
            <p:nvPr/>
          </p:nvSpPr>
          <p:spPr>
            <a:xfrm>
              <a:off x="2483280" y="4621320"/>
              <a:ext cx="76428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регистратур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8" name="TextBox 20"/>
            <p:cNvSpPr/>
            <p:nvPr/>
          </p:nvSpPr>
          <p:spPr>
            <a:xfrm>
              <a:off x="2192760" y="3795840"/>
              <a:ext cx="7293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гема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9" name="TextBox 21"/>
            <p:cNvSpPr/>
            <p:nvPr/>
          </p:nvSpPr>
          <p:spPr>
            <a:xfrm>
              <a:off x="4411440" y="5478480"/>
              <a:ext cx="46404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туалет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0" name="TextBox 22"/>
            <p:cNvSpPr/>
            <p:nvPr/>
          </p:nvSpPr>
          <p:spPr>
            <a:xfrm>
              <a:off x="4383000" y="4538520"/>
              <a:ext cx="5727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проб крови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1" name="TextBox 23"/>
            <p:cNvSpPr/>
            <p:nvPr/>
          </p:nvSpPr>
          <p:spPr>
            <a:xfrm>
              <a:off x="3871800" y="3838680"/>
              <a:ext cx="922320" cy="41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гинекологических проб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2" name="TextBox 24"/>
            <p:cNvSpPr/>
            <p:nvPr/>
          </p:nvSpPr>
          <p:spPr>
            <a:xfrm>
              <a:off x="4084560" y="284328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пасы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3" name="TextBox 25"/>
            <p:cNvSpPr/>
            <p:nvPr/>
          </p:nvSpPr>
          <p:spPr>
            <a:xfrm>
              <a:off x="4084560" y="179712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офис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4" name="TextBox 26"/>
            <p:cNvSpPr/>
            <p:nvPr/>
          </p:nvSpPr>
          <p:spPr>
            <a:xfrm>
              <a:off x="3002040" y="1612800"/>
              <a:ext cx="5983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ванная комнат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5" name="TextBox 27"/>
            <p:cNvSpPr/>
            <p:nvPr/>
          </p:nvSpPr>
          <p:spPr>
            <a:xfrm>
              <a:off x="825480" y="4079880"/>
              <a:ext cx="837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актери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парази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6" name="TextBox 28"/>
            <p:cNvSpPr/>
            <p:nvPr/>
          </p:nvSpPr>
          <p:spPr>
            <a:xfrm>
              <a:off x="1735200" y="2843280"/>
              <a:ext cx="453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мойк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7" name="TextBox 29"/>
            <p:cNvSpPr/>
            <p:nvPr/>
          </p:nvSpPr>
          <p:spPr>
            <a:xfrm>
              <a:off x="2582640" y="2873520"/>
              <a:ext cx="6062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Verdana"/>
                </a:rPr>
                <a:t>приготовление сред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8" name="TextBox 30"/>
            <p:cNvSpPr/>
            <p:nvPr/>
          </p:nvSpPr>
          <p:spPr>
            <a:xfrm>
              <a:off x="884160" y="2843280"/>
              <a:ext cx="547560" cy="33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терилизац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9" name="TextBox 31"/>
            <p:cNvSpPr/>
            <p:nvPr/>
          </p:nvSpPr>
          <p:spPr>
            <a:xfrm>
              <a:off x="1060200" y="1712880"/>
              <a:ext cx="57456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ночного дежурного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TextBox 32"/>
            <p:cNvSpPr/>
            <p:nvPr/>
          </p:nvSpPr>
          <p:spPr>
            <a:xfrm>
              <a:off x="1960560" y="1725480"/>
              <a:ext cx="487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персонал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1" name="TextBox 33"/>
            <p:cNvSpPr/>
            <p:nvPr/>
          </p:nvSpPr>
          <p:spPr>
            <a:xfrm rot="5400000">
              <a:off x="3197880" y="3565800"/>
              <a:ext cx="552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ридор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72" name="Rectangle 3"/>
          <p:cNvSpPr/>
          <p:nvPr/>
        </p:nvSpPr>
        <p:spPr>
          <a:xfrm>
            <a:off x="5867280" y="2133720"/>
            <a:ext cx="2971800" cy="38098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Oval 4"/>
          <p:cNvSpPr/>
          <p:nvPr/>
        </p:nvSpPr>
        <p:spPr>
          <a:xfrm>
            <a:off x="5867280" y="2514600"/>
            <a:ext cx="2971800" cy="28195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нешняя группа или ведом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Text Box 6"/>
          <p:cNvSpPr/>
          <p:nvPr/>
        </p:nvSpPr>
        <p:spPr>
          <a:xfrm>
            <a:off x="5867280" y="8380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неш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13"/>
          <p:cNvSpPr/>
          <p:nvPr/>
        </p:nvSpPr>
        <p:spPr>
          <a:xfrm>
            <a:off x="1523880" y="1600200"/>
            <a:ext cx="2743200" cy="990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Внутренний ауди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Line 14"/>
          <p:cNvSpPr/>
          <p:nvPr/>
        </p:nvSpPr>
        <p:spPr>
          <a:xfrm flipH="1">
            <a:off x="4419360" y="380988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Line 15"/>
          <p:cNvSpPr/>
          <p:nvPr/>
        </p:nvSpPr>
        <p:spPr>
          <a:xfrm flipH="1">
            <a:off x="4343400" y="228600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Line 16"/>
          <p:cNvSpPr/>
          <p:nvPr/>
        </p:nvSpPr>
        <p:spPr>
          <a:xfrm flipH="1" flipV="1">
            <a:off x="4343400" y="5257800"/>
            <a:ext cx="1447920" cy="5335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17"/>
          <p:cNvSpPr/>
          <p:nvPr/>
        </p:nvSpPr>
        <p:spPr>
          <a:xfrm>
            <a:off x="685800" y="914400"/>
            <a:ext cx="4495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AutoShape 19"/>
          <p:cNvSpPr/>
          <p:nvPr/>
        </p:nvSpPr>
        <p:spPr>
          <a:xfrm rot="5400000">
            <a:off x="1066680" y="312408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AutoShape 20"/>
          <p:cNvSpPr/>
          <p:nvPr/>
        </p:nvSpPr>
        <p:spPr>
          <a:xfrm rot="13572000">
            <a:off x="2895480" y="472392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D34F-136A-4DDE-9883-99ACE05177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Footer Placeholder 1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EE82-9EAB-4DC8-A6E8-E34195DF06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6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787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Text Box 9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бор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2:33:11Z</dcterms:modified>
  <cp:revision>187</cp:revision>
  <dc:subject/>
  <dc:title>Slide 1</dc:title>
</cp:coreProperties>
</file>